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move the slide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AE20-9AF9-481E-9BF7-B57FA839C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1747-7381-461E-B2C2-72D38A32AE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EF2-33B1-4A90-AE37-AD5E9454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20DA-9FA0-4F67-82EB-3668FF53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B8C-8D2D-4096-AA89-D7F87D3A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FF00-1723-479C-8924-9D97CC86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F4A4-4955-4C63-8FD6-D79016B6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4038-261A-4ADB-8515-D687B9DD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A2D6-2116-48D4-886D-55822613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4AB1-CABA-4083-AB03-C776097E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A296-3536-44A7-86D1-9555DF42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93FE-8C42-433F-9BA2-53BF85EE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1A6B-CA4A-4B9C-8635-0AEF50E2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F23-8AD1-4D97-BE09-DF07F1DF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FFD6-2D47-4408-991A-BF233247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588F-5061-4BEA-9F96-3DDEBE34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E748-4C65-40C5-9821-57835A45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63DC-7810-4753-AE1C-4830D93E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F50F-1465-4AFF-A09B-EBBDEFA1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273F2-6BEB-4B9E-AC68-8103D246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6D5CD-2CCD-4843-8FC4-24179CA2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7D523-0576-43D4-A7B3-74ABECF7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4DD3F-F031-4E71-B06B-BD6A398B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69C67-811F-4022-969D-F314363E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497-AEE0-4A5D-A26F-9C10FC46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B9938-83DC-45B5-874B-8DE2586A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73B1B-E2C4-4CDF-B47C-18AC60B9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CAE0A-5D7D-48A3-A471-ADA1E952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21C06-BBA4-4FFB-8C06-CDEB7587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A401A-5300-46B3-96FD-05889898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4ABE2-5E13-4EC6-9E4E-8647771D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B5EA7-2CB2-447E-953C-4C87F0E8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9FB9F-B1B0-4B99-85C4-1874AAA6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D2EBD-C581-4018-B1B6-3016DF3B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2FEF3-9C4B-4B61-88E0-633AAF89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F62-ABAC-4B83-861B-4734FDEA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2649C-422D-493F-9923-D6CCF7E2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F2288-4B53-4EB0-B41D-05A30CB0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8A3E3-C8C5-4C2D-98F4-0ECD14C5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23E0E-C38A-4DA9-B627-573543EC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FEEDE-A5D2-4BFF-909C-19BFB4CA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7D7FE-431B-450D-8A42-8A643615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6A764-7E6F-49A6-8D97-0C7E067B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534B0-9CFC-4A15-B930-77A59A44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C1B75-289A-4F68-9A92-C20087AD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F780C-AAA4-449D-9A91-730FC9FD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3863-782F-4202-B4AD-926B29C2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DA818-D2F3-4677-B2B0-F091D5A2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82A81-8002-48DE-A8E5-8E372764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1CD2A-B22A-495C-8DBA-E8747F8F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A5E8E-8182-4D53-AAB3-58DA2252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4E2B5-FB39-46B2-84CA-9643E42C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60D46-7535-468D-8CE7-A125BBC7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4C600-68A5-4FB3-AAEF-EF01A4F8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8B02B-4E7F-47AE-B230-AC98AF01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CF286-3094-4B3D-B223-96D45AD0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0595B-5F93-456D-95FC-229D3100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37C-2A53-40D0-B6EA-1E9D41FF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1DB63-5E43-492C-97D2-03E7A5B1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4AA-FACA-4D23-BDB3-686737C5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37C-8622-47E3-8B32-FAAA6225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9AF-786C-4E6F-B07B-149A11AB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D1C4-C0C8-4B39-B221-CBF4C2B94508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D045-8E8A-47EB-84DA-C32B7A05DF22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F276-F39E-4ABB-B7DB-0B41E84FE6F9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2A6A-2F50-4E57-A47B-D1BBF542E102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5D56-63AB-4C87-8F0B-802E377945C6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ofhs.ltkalmar.se/" TargetMode="External"/><Relationship Id="rId3" Type="http://schemas.openxmlformats.org/officeDocument/2006/relationships/hyperlink" Target="http://www.ofhs.ltkalmar.se/" TargetMode="External"/><Relationship Id="rId4" Type="http://schemas.openxmlformats.org/officeDocument/2006/relationships/hyperlink" Target="http://www.gotland.fhsk.se/" TargetMode="External"/><Relationship Id="rId5" Type="http://schemas.openxmlformats.org/officeDocument/2006/relationships/hyperlink" Target="http://www.fhsk.skurup.se/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50560" y="476280"/>
            <a:ext cx="84358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e6d0"/>
                </a:solidFill>
                <a:latin typeface="Tw Cen MT"/>
              </a:rPr>
              <a:t>   </a:t>
            </a:r>
            <a:r>
              <a:rPr b="0" lang="en-US" sz="3200" spc="-1" strike="noStrike">
                <a:solidFill>
                  <a:srgbClr val="dfe6d0"/>
                </a:solidFill>
                <a:latin typeface="Tw Cen MT"/>
              </a:rPr>
              <a:t>Vill du bli författare?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8" name="Rubrik 1" descr=""/>
          <p:cNvPicPr/>
          <p:nvPr/>
        </p:nvPicPr>
        <p:blipFill>
          <a:blip r:embed="rId1"/>
          <a:stretch/>
        </p:blipFill>
        <p:spPr>
          <a:xfrm>
            <a:off x="5546880" y="4121280"/>
            <a:ext cx="2506680" cy="19317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2881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krivande och läsande hör ihop. Om du vill bli en bra författare är det bra att läsa många böcker och många olika författar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n kan få goda idéer om hur man lägger upp intriger eller hur man t.ex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gör en ramberättels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0" name="Bildobjekt 3" descr=""/>
          <p:cNvPicPr/>
          <p:nvPr/>
        </p:nvPicPr>
        <p:blipFill>
          <a:blip r:embed="rId2"/>
          <a:stretch/>
        </p:blipFill>
        <p:spPr>
          <a:xfrm>
            <a:off x="3924360" y="1484280"/>
            <a:ext cx="403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ubrik 1" descr=""/>
          <p:cNvPicPr/>
          <p:nvPr/>
        </p:nvPicPr>
        <p:blipFill>
          <a:blip r:embed="rId1"/>
          <a:stretch/>
        </p:blipFill>
        <p:spPr>
          <a:xfrm>
            <a:off x="390600" y="743040"/>
            <a:ext cx="5645160" cy="6005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Users\ingeli.kroon\AppData\Local\Microsoft\Windows\Temporary Internet Files\Content.IE5\51IOV3H9\MC900251102[1].wmf"/>
          <p:cNvPicPr/>
          <p:nvPr/>
        </p:nvPicPr>
        <p:blipFill>
          <a:blip r:embed="rId2"/>
          <a:stretch/>
        </p:blipFill>
        <p:spPr>
          <a:xfrm>
            <a:off x="6012000" y="2421000"/>
            <a:ext cx="24462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ubrik 1" descr=""/>
          <p:cNvPicPr/>
          <p:nvPr/>
        </p:nvPicPr>
        <p:blipFill>
          <a:blip r:embed="rId1"/>
          <a:stretch/>
        </p:blipFill>
        <p:spPr>
          <a:xfrm>
            <a:off x="249120" y="341280"/>
            <a:ext cx="8456760" cy="1427040"/>
          </a:xfrm>
          <a:prstGeom prst="rect">
            <a:avLst/>
          </a:prstGeom>
          <a:ln w="0">
            <a:noFill/>
          </a:ln>
        </p:spPr>
      </p:pic>
      <p:pic>
        <p:nvPicPr>
          <p:cNvPr id="404" name="Platshållare för innehåll 4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716000" y="1916280"/>
            <a:ext cx="3970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Aharoni"/>
                <a:ea typeface="Aharoni"/>
              </a:rPr>
              <a:t>dikt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roman </a:t>
            </a:r>
            <a:r>
              <a:rPr b="0" lang="en-US" sz="2600" spc="-1" strike="noStrike">
                <a:solidFill>
                  <a:srgbClr val="dfe6d0"/>
                </a:solidFill>
                <a:latin typeface="Broadway"/>
                <a:ea typeface="Aparajita"/>
              </a:rPr>
              <a:t>låttext </a:t>
            </a:r>
            <a:r>
              <a:rPr b="0" lang="en-US" sz="2600" spc="-1" strike="noStrike">
                <a:solidFill>
                  <a:srgbClr val="dfe6d0"/>
                </a:solidFill>
                <a:latin typeface="Copperplate Gothic Bold"/>
              </a:rPr>
              <a:t>pjäs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en-US" sz="4400" spc="-1" strike="noStrike">
                <a:solidFill>
                  <a:srgbClr val="dfe6d0"/>
                </a:solidFill>
                <a:latin typeface="Blackadder ITC"/>
              </a:rPr>
              <a:t>saga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1" lang="en-US" sz="2600" spc="-1" strike="noStrike">
                <a:solidFill>
                  <a:srgbClr val="dfe6d0"/>
                </a:solidFill>
                <a:latin typeface="Bradley Hand ITC"/>
              </a:rPr>
              <a:t>poesi  </a:t>
            </a:r>
            <a:r>
              <a:rPr b="0" lang="en-US" sz="4300" spc="-1" strike="noStrike">
                <a:solidFill>
                  <a:srgbClr val="dfe6d0"/>
                </a:solidFill>
                <a:latin typeface="Chiller"/>
              </a:rPr>
              <a:t>fantasy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dfe6d0"/>
                </a:solidFill>
                <a:latin typeface="Baskerville Old Face"/>
              </a:rPr>
              <a:t>tecknad</a:t>
            </a:r>
            <a:r>
              <a:rPr b="0" lang="en-US" sz="32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dfe6d0"/>
                </a:solidFill>
                <a:latin typeface="Baskerville Old Face"/>
              </a:rPr>
              <a:t>serie</a:t>
            </a:r>
            <a:r>
              <a:rPr b="0" lang="en-US" sz="3200" spc="-1" strike="noStrike">
                <a:solidFill>
                  <a:srgbClr val="dfe6d0"/>
                </a:solidFill>
                <a:latin typeface="Tw Cen MT"/>
              </a:rPr>
              <a:t>  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Aharoni"/>
                <a:ea typeface="Aharoni"/>
              </a:rPr>
              <a:t>kortroman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dfe6d0"/>
                </a:solidFill>
                <a:latin typeface="comic"/>
              </a:rPr>
              <a:t>filmmanus 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Broadway"/>
              </a:rPr>
              <a:t>berättelse</a:t>
            </a:r>
            <a:r>
              <a:rPr b="0" lang="en-US" sz="26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Bodoni MT Black"/>
              </a:rPr>
              <a:t> </a:t>
            </a:r>
            <a:r>
              <a:rPr b="0" lang="en-US" sz="2600" spc="-1" strike="noStrike">
                <a:solidFill>
                  <a:srgbClr val="dfe6d0"/>
                </a:solidFill>
                <a:latin typeface="Bodoni MT Black"/>
              </a:rPr>
              <a:t>deckare </a:t>
            </a:r>
            <a:r>
              <a:rPr b="0" lang="en-US" sz="2600" spc="-1" strike="noStrike">
                <a:solidFill>
                  <a:srgbClr val="dfe6d0"/>
                </a:solidFill>
                <a:latin typeface="comic"/>
                <a:ea typeface="Arabic Typesetting"/>
              </a:rPr>
              <a:t>novel</a:t>
            </a:r>
            <a:r>
              <a:rPr b="0" lang="en-US" sz="2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l 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Bernard MT Condensed"/>
              </a:rPr>
              <a:t>grafisk </a:t>
            </a:r>
            <a:r>
              <a:rPr b="0" lang="en-US" sz="2600" spc="-1" strike="noStrike">
                <a:solidFill>
                  <a:srgbClr val="dfe6d0"/>
                </a:solidFill>
                <a:latin typeface="Bernard MT Condensed"/>
                <a:ea typeface="Aharoni"/>
              </a:rPr>
              <a:t>roman 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e6d0"/>
                </a:solidFill>
                <a:latin typeface="Aharoni"/>
                <a:ea typeface="Aharoni"/>
              </a:rPr>
              <a:t>Kanske något annat?</a:t>
            </a:r>
            <a:endParaRPr b="0" lang="en-US" sz="26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ubrik 1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51724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94920" y="1628640"/>
            <a:ext cx="38847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Använd din fantasi och uttryck något du vill berätta!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Formen för ditt berättande väljer du själv!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För att komma igång kan du läsa någon av ungdomsböckerna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ur listan med boktips.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Eller läs och låt dej inspireras  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av de tips som finns i de före- 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slagna fackböckerna.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Om du vill fortsätta ditt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skrivande åk gärna på ett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</a:t>
            </a: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skrivarläger i sommar!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e6d0"/>
                </a:solidFill>
                <a:latin typeface="Tw Cen MT"/>
              </a:rPr>
              <a:t>   </a:t>
            </a:r>
            <a:endParaRPr b="0" lang="en-US" sz="18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8" name="Platshållare för innehåll 4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384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ubrik 1" descr=""/>
          <p:cNvPicPr/>
          <p:nvPr/>
        </p:nvPicPr>
        <p:blipFill>
          <a:blip r:embed="rId1"/>
          <a:stretch/>
        </p:blipFill>
        <p:spPr>
          <a:xfrm>
            <a:off x="237960" y="268200"/>
            <a:ext cx="845532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2400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letcher, R Den unge författarens verktyg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eorge, E Skriv på!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Härle, H Skriv och skriv vida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Karlsson, Y Skriv om och om ige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Küchen, M Att skriva börjar här version 2.0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Nasiell, A Börja skriva!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ubrik 1" descr=""/>
          <p:cNvPicPr/>
          <p:nvPr/>
        </p:nvPicPr>
        <p:blipFill>
          <a:blip r:embed="rId1"/>
          <a:stretch/>
        </p:blipFill>
        <p:spPr>
          <a:xfrm>
            <a:off x="324000" y="328680"/>
            <a:ext cx="8307360" cy="11523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-3568680" y="1422360"/>
            <a:ext cx="409896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23640" y="1557360"/>
            <a:ext cx="4173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Ungdomsböcker om eget skrivande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Stefan Casta * Näktergalens sång</a:t>
            </a: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	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Inger Edelfeldt * Hemligt ansikte</a:t>
            </a: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	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Bo R. Holmberg * Hon heter Beatrice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Cannie Möller * M som i Mara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Mikael Niemi * Skjut apelsinen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Per Nilsson * Absolut Per Nilsson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fe6d0"/>
                </a:solidFill>
                <a:latin typeface="Tw Cen MT"/>
              </a:rPr>
              <a:t>Swedenmark * Mellan två världar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6aacd"/>
                </a:solidFill>
                <a:uFillTx/>
                <a:latin typeface="Tw Cen MT"/>
                <a:hlinkClick r:id="rId2"/>
              </a:rPr>
              <a:t>http</a:t>
            </a:r>
            <a:r>
              <a:rPr b="0" lang="en-US" sz="1300" spc="-1" strike="noStrike" u="sng">
                <a:solidFill>
                  <a:srgbClr val="66aacd"/>
                </a:solidFill>
                <a:uFillTx/>
                <a:latin typeface="Tw Cen MT"/>
                <a:hlinkClick r:id="rId3"/>
              </a:rPr>
              <a:t>://www.ofhs.ltkalmar.se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6aacd"/>
                </a:solidFill>
                <a:uFillTx/>
                <a:latin typeface="Tw Cen MT"/>
                <a:hlinkClick r:id="rId4"/>
              </a:rPr>
              <a:t>www.gotland.fhsk.se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6aacd"/>
                </a:solidFill>
                <a:uFillTx/>
                <a:latin typeface="Tw Cen MT"/>
                <a:hlinkClick r:id="rId5"/>
              </a:rPr>
              <a:t>www.fhsk.skurup.se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fe6d0"/>
                </a:solidFill>
                <a:latin typeface="Tw Cen MT"/>
              </a:rPr>
              <a:t>      </a:t>
            </a:r>
            <a:r>
              <a:rPr b="0" lang="en-US" sz="1300" spc="-1" strike="noStrike">
                <a:solidFill>
                  <a:srgbClr val="dfe6d0"/>
                </a:solidFill>
                <a:latin typeface="Tw Cen MT"/>
              </a:rPr>
              <a:t>Citat ur: Världens bästa citat om böcker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fe6d0"/>
                </a:solidFill>
                <a:latin typeface="Tw Cen MT"/>
              </a:rPr>
              <a:t> 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5" name="Platshållare för innehåll 6" descr=""/>
          <p:cNvPicPr/>
          <p:nvPr/>
        </p:nvPicPr>
        <p:blipFill>
          <a:blip r:embed="rId6"/>
          <a:stretch/>
        </p:blipFill>
        <p:spPr>
          <a:xfrm>
            <a:off x="4067280" y="1506600"/>
            <a:ext cx="4041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6:38:08Z</dcterms:created>
  <dc:creator>Kroon Ingeli</dc:creator>
  <dc:description/>
  <dc:language>en-US</dc:language>
  <cp:lastModifiedBy>Kroon Ingeli</cp:lastModifiedBy>
  <dcterms:modified xsi:type="dcterms:W3CDTF">2011-02-11T13:46:37Z</dcterms:modified>
  <cp:revision>34</cp:revision>
  <dc:subject/>
  <dc:title>Flitigt läsa gör dej klok därför läs varenda bok</dc:title>
</cp:coreProperties>
</file>